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34.jpeg" ContentType="image/jpeg"/>
  <Override PartName="/ppt/media/image28.jpeg" ContentType="image/jpeg"/>
  <Override PartName="/ppt/media/image29.jpeg" ContentType="image/jpeg"/>
  <Override PartName="/ppt/media/image8.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5627C-2040-4560-B9D9-249555E98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27015-2B4C-4AD5-B462-F617F6294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A80F1-3DD1-475C-BDF1-743F44C72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EB8D5-4C6C-430A-9AB1-231391A39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3DFCC-0AAD-4F10-8CE3-EFFA08662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914B8-C0F0-4AE9-890B-12FDE40BF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E3D23-B898-4782-88F0-A2EEC922E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D120B-DB65-45AD-94AA-CBFBF049F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85D97-BCA2-41DC-8C9B-1CB19EB77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28F61-531B-4427-9A5C-E16BAE723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45212-E32B-4FD5-8FED-B0F229926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9AD20-7A2B-44E0-B10B-FF25FD616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C6BEB-F58A-4F4F-9758-931022F4F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1E6A2-E95D-4694-90BA-72E0EA03D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7D856-58D3-4EDD-B3B1-D842C175A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C2D1F-EDB6-41C4-B84D-22D06AE69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878407-A6E9-4EE1-9F69-32A320432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2F692-CB75-4F4C-9A56-45F07E0E2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30F85-DC31-4C00-896F-94A372596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9AE11-9545-4EBE-81EA-9112CB056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9351E-B5A3-46D4-A1C2-EE1E7A716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9C718-59DB-40E0-B635-CF3679B14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1372B-CFE8-4161-A318-0ED91385A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7F6A2-9396-478D-B7BB-AC67F7FDE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4D18-75EA-4C00-B890-C55DB10D1C9F}"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1FC6-8356-4EF8-8516-BF81DBFCD99F}"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Análisis documental de obras de arte y de reproducciones de arte</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54180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nálisis iconográfico</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Es “la identificación de temas y conceptos manifestados en imágenes, historias y alegorías”.</a:t>
            </a:r>
            <a:r>
              <a:rPr b="0" lang="es-ES" sz="3200" spc="-1" strike="noStrike">
                <a:solidFill>
                  <a:srgbClr val="ffffcc"/>
                </a:solidFill>
                <a:latin typeface="Arial"/>
                <a:ea typeface="Arial"/>
              </a:rPr>
              <a:t>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conocimiento de las fuentes literarias, costumbres y tradiciones de la cultura en la que la escena sucede y se representa.</a:t>
            </a:r>
            <a:r>
              <a:rPr b="0" lang="es-ES" sz="3200" spc="-1" strike="noStrike">
                <a:solidFill>
                  <a:srgbClr val="ffffcc"/>
                </a:solidFill>
                <a:latin typeface="Arial"/>
                <a:ea typeface="Arial"/>
              </a:rPr>
              <a:t> </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retación iconológica</a:t>
            </a:r>
            <a:endParaRPr b="0" lang="en-US" sz="4400" spc="-1" strike="noStrike">
              <a:solidFill>
                <a:srgbClr val="ffcc00"/>
              </a:solidFill>
              <a:latin typeface="Arial"/>
            </a:endParaRPr>
          </a:p>
        </p:txBody>
      </p:sp>
      <p:sp>
        <p:nvSpPr>
          <p:cNvPr id="11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Identificación de los principios subyacentes que revelan la actitud básica de una nación periodo, religión, clase o tendencia filosófica”.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Requiere un conocimiento muy profundo de la historia del arte y de su contexto social y cultural.</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Getsemaní"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Niveles de AD de obras de arte</a:t>
            </a:r>
            <a:endParaRPr b="0" lang="en-US" sz="4400" spc="-1" strike="noStrike">
              <a:solidFill>
                <a:srgbClr val="ffcc00"/>
              </a:solidFill>
              <a:latin typeface="Arial"/>
            </a:endParaRPr>
          </a:p>
        </p:txBody>
      </p:sp>
      <p:sp>
        <p:nvSpPr>
          <p:cNvPr id="11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escripción</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sumen anotativo</a:t>
            </a:r>
            <a:endParaRPr b="0" lang="en-US" sz="28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sumen indicativo</a:t>
            </a:r>
            <a:endParaRPr b="0" lang="en-US" sz="28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scriptore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dentificación</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ementos iconográficos históricos</a:t>
            </a:r>
            <a:endParaRPr b="0" lang="en-US" sz="28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ementos iconográficos simbólico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terpretació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Iconografía</a:t>
            </a:r>
            <a:endParaRPr b="0" lang="en-US" sz="4400" spc="-1" strike="noStrike">
              <a:solidFill>
                <a:srgbClr val="ffcc00"/>
              </a:solidFill>
              <a:latin typeface="Arial"/>
            </a:endParaRPr>
          </a:p>
        </p:txBody>
      </p:sp>
      <p:sp>
        <p:nvSpPr>
          <p:cNvPr id="11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itología clásic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conografía cristian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radición literari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radición históric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olklore y cultura popula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Vida cotidian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371" descr=""/>
          <p:cNvPicPr/>
          <p:nvPr/>
        </p:nvPicPr>
        <p:blipFill>
          <a:blip r:embed="rId2"/>
          <a:stretch/>
        </p:blipFill>
        <p:spPr>
          <a:xfrm>
            <a:off x="2347920" y="-42840"/>
            <a:ext cx="4446720" cy="690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chinchon" descr=""/>
          <p:cNvPicPr/>
          <p:nvPr/>
        </p:nvPicPr>
        <p:blipFill>
          <a:blip r:embed="rId2"/>
          <a:stretch/>
        </p:blipFill>
        <p:spPr>
          <a:xfrm>
            <a:off x="1785960" y="0"/>
            <a:ext cx="55706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00"/>
                </a:solidFill>
                <a:latin typeface="Arial"/>
                <a:ea typeface="Arial"/>
              </a:rPr>
              <a:t>Descripción: Resumen anotativo</a:t>
            </a:r>
            <a:endParaRPr b="0" lang="en-US" sz="4400" spc="-1" strike="noStrike">
              <a:solidFill>
                <a:srgbClr val="ffcc00"/>
              </a:solidFill>
              <a:latin typeface="Arial"/>
            </a:endParaRPr>
          </a:p>
        </p:txBody>
      </p:sp>
      <p:sp>
        <p:nvSpPr>
          <p:cNvPr id="11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      Retrato de joven embarazada, sentada en un sillón y ataviada estilo imperio.</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00"/>
                </a:solidFill>
                <a:latin typeface="Arial"/>
                <a:ea typeface="Arial"/>
              </a:rPr>
              <a:t>Descripción: Resumen indicativo</a:t>
            </a:r>
            <a:endParaRPr b="0" lang="en-US" sz="4400" spc="-1" strike="noStrike">
              <a:solidFill>
                <a:srgbClr val="ffcc00"/>
              </a:solidFill>
              <a:latin typeface="Arial"/>
            </a:endParaRPr>
          </a:p>
        </p:txBody>
      </p:sp>
      <p:sp>
        <p:nvSpPr>
          <p:cNvPr id="12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29040" indent="-3290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      Retrato de tamaño natural de una mujer joven embarazada, sentada en un sillón con las manos entrelazadas sobre su regazo. Lleva un vestido estilo imperio, un traje blanco de escote cuadrado con motivos azules que adornan su falda, cintura y mangas, y cubre su cabeza con un tocado blanco con adornos azules y espigas verdes. Lleva una sortija en cada mano. La de la derecha es un camafeo que representa a un hombre joven.</a:t>
            </a:r>
            <a:endParaRPr b="0" lang="en-US" sz="2800" spc="-1" strike="noStrike">
              <a:solidFill>
                <a:srgbClr val="ffffcc"/>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scripción: Descriptores</a:t>
            </a:r>
            <a:endParaRPr b="0" lang="en-US" sz="4400" spc="-1" strike="noStrike">
              <a:solidFill>
                <a:srgbClr val="ffcc00"/>
              </a:solidFill>
              <a:latin typeface="Arial"/>
            </a:endParaRPr>
          </a:p>
        </p:txBody>
      </p:sp>
      <p:sp>
        <p:nvSpPr>
          <p:cNvPr id="123"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ujer jove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Retrato sedente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Embarazo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anos entrelazadas sobre regaz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Vestido estilo imperi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Escote cuadrado</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24"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Tocado blanc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Espigas verd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Sortija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amafe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Hombre jove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Silló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Interior</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Arte / Documento</a:t>
            </a:r>
            <a:endParaRPr b="0" lang="en-US" sz="4400" spc="-1" strike="noStrike">
              <a:solidFill>
                <a:srgbClr val="ffcc00"/>
              </a:solidFill>
              <a:latin typeface="Arial"/>
            </a:endParaRPr>
          </a:p>
        </p:txBody>
      </p:sp>
      <p:sp>
        <p:nvSpPr>
          <p:cNvPr id="9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useo imagina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érdida de información</a:t>
            </a:r>
            <a:endParaRPr b="0" lang="en-US" sz="32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amaño</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cala</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lo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dentificación: Resumen</a:t>
            </a:r>
            <a:endParaRPr b="0" lang="en-US" sz="4400" spc="-1" strike="noStrike">
              <a:solidFill>
                <a:srgbClr val="ffcc00"/>
              </a:solidFill>
              <a:latin typeface="Arial"/>
            </a:endParaRPr>
          </a:p>
        </p:txBody>
      </p:sp>
      <p:sp>
        <p:nvSpPr>
          <p:cNvPr id="12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ea typeface="Arial"/>
              </a:rPr>
              <a:t>María Teresa de Borbón y Vallabriga (1779-1828), condesa de Chinchón, era sobrina del rey de España Carlos IV y esposa de Manuel Godoy, valido del rey, Príncipe de la Paz, con quien había sido casada a la edad de 17 años. Para María Teresa este  matrimonio significaba la restitución de su posición dentro de la familia real —perdida a causa de la condición  desigual del matrimonio de su padre, el infante Luis de Borbón, hermano de Carlos III, con María Teresa Vallabriga— y el fin del rigor de la vida conventual  al que estaba sometida  desde la muerte de su padre. El matrimonio con Godoy, trece años mayor que ella, apuesto y poderoso, rehabilitaba a su familia, y a ella misma, que era nieta,  sobrina y prima de rey, pasaba  a ocupar la máxima dignidad detrás de la reina María Luisa. En el retrato realizado por Goya en 1800 aparece embarazada de su primera hija, Carlota Godoy y Borbón. Una de las dos sortijas que se aprecian en sus manos, es un camafeo que representa a su esposo. Su hermano, el cardenal Luis María de Borbón y Vallabriga, arzobispo de Sevilla y Toledo, había sido también retratado en ese mismo año por Goya. Goya tuvo una íntima amistad con los padres de ambos —su madre era aragonesa como el pintor—, que continuaría con ambos hermanos.</a:t>
            </a:r>
            <a:r>
              <a:rPr b="0" lang="es-ES" sz="3200" spc="-1" strike="noStrike">
                <a:solidFill>
                  <a:srgbClr val="ffffcc"/>
                </a:solidFill>
                <a:latin typeface="Arial"/>
              </a:rPr>
              <a:t>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dentificación: Descriptores</a:t>
            </a:r>
            <a:endParaRPr b="0" lang="en-US" sz="4400" spc="-1" strike="noStrike">
              <a:solidFill>
                <a:srgbClr val="ffcc00"/>
              </a:solidFill>
              <a:latin typeface="Arial"/>
            </a:endParaRPr>
          </a:p>
        </p:txBody>
      </p:sp>
      <p:sp>
        <p:nvSpPr>
          <p:cNvPr id="128" name="PlaceHolder 2"/>
          <p:cNvSpPr>
            <a:spLocks noGrp="1"/>
          </p:cNvSpPr>
          <p:nvPr>
            <p:ph/>
          </p:nvPr>
        </p:nvSpPr>
        <p:spPr>
          <a:xfrm>
            <a:off x="328320" y="1941480"/>
            <a:ext cx="40273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aría Teresa de Borbón y Vallabriga</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ondesas</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ondado de Chinchón</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Familia real</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asa de Borbón (España)</a:t>
            </a: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   </a:t>
            </a:r>
            <a:endParaRPr b="0" lang="en-US" sz="2800" spc="-1" strike="noStrike">
              <a:solidFill>
                <a:srgbClr val="ffffcc"/>
              </a:solidFill>
              <a:latin typeface="Arial"/>
            </a:endParaRPr>
          </a:p>
        </p:txBody>
      </p:sp>
      <p:sp>
        <p:nvSpPr>
          <p:cNvPr id="129"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anuel de Godoy</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Validos real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arlota Godoy y Borbó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  </a:t>
            </a:r>
            <a:r>
              <a:rPr b="0" lang="es-ES_tradnl" sz="2800" spc="-1" strike="noStrike">
                <a:solidFill>
                  <a:srgbClr val="ffffcc"/>
                </a:solidFill>
                <a:latin typeface="Arial"/>
                <a:ea typeface="Arial"/>
              </a:rPr>
              <a:t>Francisco de Goya y Lucientes</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retación: Resumen</a:t>
            </a:r>
            <a:endParaRPr b="0" lang="en-US" sz="4400" spc="-1" strike="noStrike">
              <a:solidFill>
                <a:srgbClr val="ffcc00"/>
              </a:solidFill>
              <a:latin typeface="Arial"/>
            </a:endParaRPr>
          </a:p>
        </p:txBody>
      </p:sp>
      <p:sp>
        <p:nvSpPr>
          <p:cNvPr id="13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ea typeface="Arial"/>
              </a:rPr>
              <a:t>Más allá de la aparente sencillez de la composición, el cuadro resalta eficazmente el tópico de fertilidad y la función reproductora femenina a través de varios signos: las espigas verdes que aparecen en el tocado de la joven;  la composición cóncava y envolvente; o la forma del vestido a modo de vasija, que, significativamente, queda sellado por el camafeo conyugal, denotando la posesión del marido sobre la mujer y el hijo gestado. Más allá del tópico, se percibe un profundo interés por la individualidad de la persona, aspecto reflejado en el amable y detallado tratamiento del rostro y en la profundidad psicológica con la que retrata su soledad y su fragilidad. El pintor, Francisco de Goya, era amigo personal de sus padres, de ella y su hermano, hecho que condiciona el amable tratamiento pictórico que les dispensa. Sin embargo, no oculta ni en este retrato ni en el de su hermano, el cardenal Luis María de Borbón y Vallabriga, la melancolía en el rostro, reflejo de difícil destino de su familia, tras la muerte del padre. En este retrato Goya supera genialmente los modelos académicos imperantes en ese momento para mostrase como un precursor del Romanticismo.</a:t>
            </a:r>
            <a:r>
              <a:rPr b="0" lang="es-ES" sz="1800" spc="-1" strike="noStrike">
                <a:solidFill>
                  <a:srgbClr val="ffffcc"/>
                </a:solidFill>
                <a:latin typeface="Arial"/>
              </a:rPr>
              <a:t> </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retación: Descriptores</a:t>
            </a:r>
            <a:endParaRPr b="0" lang="en-US" sz="4400" spc="-1" strike="noStrike">
              <a:solidFill>
                <a:srgbClr val="ffcc00"/>
              </a:solidFill>
              <a:latin typeface="Arial"/>
            </a:endParaRPr>
          </a:p>
        </p:txBody>
      </p:sp>
      <p:sp>
        <p:nvSpPr>
          <p:cNvPr id="133" name="PlaceHolder 2"/>
          <p:cNvSpPr>
            <a:spLocks noGrp="1"/>
          </p:cNvSpPr>
          <p:nvPr>
            <p:ph/>
          </p:nvPr>
        </p:nvSpPr>
        <p:spPr>
          <a:xfrm>
            <a:off x="304560" y="1981080"/>
            <a:ext cx="40273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Fertilidad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Arquetipos femenino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Inocenci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elancolía</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Soledad    </a:t>
            </a:r>
            <a:endParaRPr b="0" lang="en-US" sz="2800" spc="-1" strike="noStrike">
              <a:solidFill>
                <a:srgbClr val="ffffcc"/>
              </a:solidFill>
              <a:latin typeface="Arial"/>
            </a:endParaRPr>
          </a:p>
        </p:txBody>
      </p:sp>
      <p:sp>
        <p:nvSpPr>
          <p:cNvPr id="134" name="PlaceHolder 3"/>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Maternidad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Condición social de la mujer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Fragilidad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ea typeface="Arial"/>
              </a:rPr>
              <a:t>Individuación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JanSteen" descr=""/>
          <p:cNvPicPr/>
          <p:nvPr/>
        </p:nvPicPr>
        <p:blipFill>
          <a:blip r:embed="rId2"/>
          <a:stretch/>
        </p:blipFill>
        <p:spPr>
          <a:xfrm>
            <a:off x="0" y="314280"/>
            <a:ext cx="9144000" cy="654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JanSteen1" descr=""/>
          <p:cNvPicPr/>
          <p:nvPr/>
        </p:nvPicPr>
        <p:blipFill>
          <a:blip r:embed="rId2"/>
          <a:stretch/>
        </p:blipFill>
        <p:spPr>
          <a:xfrm>
            <a:off x="0" y="11448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JanSteen2" descr=""/>
          <p:cNvPicPr/>
          <p:nvPr/>
        </p:nvPicPr>
        <p:blipFill>
          <a:blip r:embed="rId2"/>
          <a:stretch/>
        </p:blipFill>
        <p:spPr>
          <a:xfrm>
            <a:off x="0" y="-14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JanSteen3"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JanSteen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0" name="JanSteen5"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Centros y servicios</a:t>
            </a:r>
            <a:endParaRPr b="0" lang="en-US" sz="4400" spc="-1" strike="noStrike">
              <a:solidFill>
                <a:srgbClr val="ffcc00"/>
              </a:solidFill>
              <a:latin typeface="Arial"/>
            </a:endParaRPr>
          </a:p>
        </p:txBody>
      </p:sp>
      <p:sp>
        <p:nvSpPr>
          <p:cNvPr id="9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useo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entros de gestión del Patrimonio</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ototeca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Bibliotecas especializada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lecciones privada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undacione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Galerías de arte</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stemas de información artístic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JanSteen6"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JanSteen7"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JanSteen8"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JanSteen9"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5" name="JanSteen10"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6" name="JanSteen1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JanSteen1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Rubens" descr=""/>
          <p:cNvPicPr/>
          <p:nvPr/>
        </p:nvPicPr>
        <p:blipFill>
          <a:blip r:embed="rId2"/>
          <a:stretch/>
        </p:blipFill>
        <p:spPr>
          <a:xfrm>
            <a:off x="0" y="328680"/>
            <a:ext cx="9144000" cy="6200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Rubens2" descr=""/>
          <p:cNvPicPr/>
          <p:nvPr/>
        </p:nvPicPr>
        <p:blipFill>
          <a:blip r:embed="rId2"/>
          <a:stretch/>
        </p:blipFill>
        <p:spPr>
          <a:xfrm>
            <a:off x="990720" y="6480"/>
            <a:ext cx="7162560" cy="6845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Tintoretto" descr=""/>
          <p:cNvPicPr/>
          <p:nvPr/>
        </p:nvPicPr>
        <p:blipFill>
          <a:blip r:embed="rId2"/>
          <a:stretch/>
        </p:blipFill>
        <p:spPr>
          <a:xfrm>
            <a:off x="0" y="255600"/>
            <a:ext cx="9144000" cy="634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Uso de las reproducciones</a:t>
            </a:r>
            <a:endParaRPr b="0" lang="en-US" sz="4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areas de identificación</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ustitución de originales</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stimonio de estado coyuntural</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ocumentación de estados pasados</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ifusión pública virtual y edición</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poyo documental a la gestión y control</a:t>
            </a:r>
            <a:endParaRPr b="0" lang="en-US" sz="3200" spc="-1" strike="noStrike">
              <a:solidFill>
                <a:srgbClr val="ffffcc"/>
              </a:solidFill>
              <a:latin typeface="Arial"/>
            </a:endParaRPr>
          </a:p>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poyo documental a la investigació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Boucher" descr=""/>
          <p:cNvPicPr/>
          <p:nvPr/>
        </p:nvPicPr>
        <p:blipFill>
          <a:blip r:embed="rId2"/>
          <a:stretch/>
        </p:blipFill>
        <p:spPr>
          <a:xfrm>
            <a:off x="1854360" y="0"/>
            <a:ext cx="543384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2" name="Boucher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Pissarro" descr=""/>
          <p:cNvPicPr/>
          <p:nvPr/>
        </p:nvPicPr>
        <p:blipFill>
          <a:blip r:embed="rId2"/>
          <a:stretch/>
        </p:blipFill>
        <p:spPr>
          <a:xfrm>
            <a:off x="533520" y="-15840"/>
            <a:ext cx="8153280" cy="6824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Pissarro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Gauguin" descr=""/>
          <p:cNvPicPr/>
          <p:nvPr/>
        </p:nvPicPr>
        <p:blipFill>
          <a:blip r:embed="rId2"/>
          <a:stretch/>
        </p:blipFill>
        <p:spPr>
          <a:xfrm>
            <a:off x="1978200" y="0"/>
            <a:ext cx="51876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Gauguin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Delacroix" descr=""/>
          <p:cNvPicPr/>
          <p:nvPr/>
        </p:nvPicPr>
        <p:blipFill>
          <a:blip r:embed="rId2"/>
          <a:stretch/>
        </p:blipFill>
        <p:spPr>
          <a:xfrm>
            <a:off x="1819440" y="0"/>
            <a:ext cx="550512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Delacroix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9" name="Delacroix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Rothko" descr=""/>
          <p:cNvPicPr/>
          <p:nvPr/>
        </p:nvPicPr>
        <p:blipFill>
          <a:blip r:embed="rId2"/>
          <a:stretch/>
        </p:blipFill>
        <p:spPr>
          <a:xfrm>
            <a:off x="1890720" y="0"/>
            <a:ext cx="536256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imes New Roman"/>
                <a:ea typeface="Times New Roman"/>
              </a:rPr>
              <a:t>Modelos de datos</a:t>
            </a:r>
            <a:endParaRPr b="0" lang="en-US" sz="4400" spc="-1" strike="noStrike">
              <a:solidFill>
                <a:srgbClr val="ffcc00"/>
              </a:solidFill>
              <a:latin typeface="Arial"/>
            </a:endParaRPr>
          </a:p>
        </p:txBody>
      </p:sp>
      <p:sp>
        <p:nvSpPr>
          <p:cNvPr id="9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DWA. Categories for the Description of Works of Art </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VRA. Visual Resources Association</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SMARC</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ublin Core</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bject ID</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DA (Getty)</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IMI (Museum Intelligence)</a:t>
            </a:r>
            <a:endParaRPr b="0" lang="en-US" sz="2800" spc="-1" strike="noStrike">
              <a:solidFill>
                <a:srgbClr val="ffffcc"/>
              </a:solidFill>
              <a:latin typeface="Arial"/>
            </a:endParaRPr>
          </a:p>
          <a:p>
            <a:pPr marL="335880" indent="-3358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AD (Encoded Archival Descript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dulac_cindy8" descr=""/>
          <p:cNvPicPr/>
          <p:nvPr/>
        </p:nvPicPr>
        <p:blipFill>
          <a:blip r:embed="rId2"/>
          <a:stretch/>
        </p:blipFill>
        <p:spPr>
          <a:xfrm>
            <a:off x="1728720" y="0"/>
            <a:ext cx="568656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enagos" descr=""/>
          <p:cNvPicPr/>
          <p:nvPr/>
        </p:nvPicPr>
        <p:blipFill>
          <a:blip r:embed="rId2"/>
          <a:stretch/>
        </p:blipFill>
        <p:spPr>
          <a:xfrm>
            <a:off x="2065320" y="0"/>
            <a:ext cx="492300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Lincoln" descr=""/>
          <p:cNvPicPr/>
          <p:nvPr/>
        </p:nvPicPr>
        <p:blipFill>
          <a:blip r:embed="rId2"/>
          <a:stretch/>
        </p:blipFill>
        <p:spPr>
          <a:xfrm>
            <a:off x="2155680" y="0"/>
            <a:ext cx="4832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CDWA </a:t>
            </a:r>
            <a:r>
              <a:rPr b="0" lang="es-ES" sz="3200" spc="-1" strike="noStrike">
                <a:solidFill>
                  <a:srgbClr val="ffcc00"/>
                </a:solidFill>
                <a:latin typeface="Arial"/>
              </a:rPr>
              <a:t>(Campos obligatorios)</a:t>
            </a:r>
            <a:endParaRPr b="0" lang="en-US" sz="3200" spc="-1" strike="noStrike">
              <a:solidFill>
                <a:srgbClr val="ffcc00"/>
              </a:solidFill>
              <a:latin typeface="Arial"/>
            </a:endParaRPr>
          </a:p>
        </p:txBody>
      </p:sp>
      <p:sp>
        <p:nvSpPr>
          <p:cNvPr id="9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bjeto/Obra</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lasificación</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Título</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edidas</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teriales y técnica</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reación/Autoría</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ateria temática</a:t>
            </a:r>
            <a:endParaRPr b="0" lang="en-US" sz="2800" spc="-1" strike="noStrike">
              <a:solidFill>
                <a:srgbClr val="ffffcc"/>
              </a:solidFill>
              <a:latin typeface="Arial"/>
            </a:endParaRPr>
          </a:p>
          <a:p>
            <a:pPr marL="339480" indent="-3394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calización actu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Análisis de contenido temático</a:t>
            </a:r>
            <a:endParaRPr b="0" lang="en-US" sz="4400" spc="-1" strike="noStrike">
              <a:solidFill>
                <a:srgbClr val="ffcc00"/>
              </a:solidFill>
              <a:latin typeface="Arial"/>
            </a:endParaRPr>
          </a:p>
        </p:txBody>
      </p:sp>
      <p:sp>
        <p:nvSpPr>
          <p:cNvPr id="10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Facetas (Ranganathan)</a:t>
            </a:r>
            <a:endParaRPr b="0" lang="en-US" sz="28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gente</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cción, proceso o movimiento</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ateria u objeto</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pacio</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iempo</a:t>
            </a:r>
            <a:endParaRPr b="0" lang="en-US" sz="2400" spc="-1" strike="noStrike">
              <a:solidFill>
                <a:srgbClr val="ffffcc"/>
              </a:solidFill>
              <a:latin typeface="Arial"/>
            </a:endParaRPr>
          </a:p>
          <a:p>
            <a:pPr marL="305280" indent="-3052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erspectiva canónica</a:t>
            </a:r>
            <a:endParaRPr b="0" lang="en-US" sz="28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Forma y estilo</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Grupos, Escuelas e individuos</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conografía</a:t>
            </a:r>
            <a:endParaRPr b="0" lang="en-US" sz="2400" spc="-1" strike="noStrike">
              <a:solidFill>
                <a:srgbClr val="ffffcc"/>
              </a:solidFill>
              <a:latin typeface="Arial"/>
            </a:endParaRPr>
          </a:p>
          <a:p>
            <a:pPr lvl="1" marL="660960" indent="-25416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istoria social del art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Erwin Panofsky</a:t>
            </a: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20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Times New Roman"/>
              </a:rPr>
              <a:t>Materia temática primaria (primary subject matter): Análisis preiconográfico</a:t>
            </a:r>
            <a:endParaRPr b="0" lang="en-US" sz="3200" spc="-1" strike="noStrike">
              <a:solidFill>
                <a:srgbClr val="ffffcc"/>
              </a:solidFill>
              <a:latin typeface="Arial"/>
            </a:endParaRPr>
          </a:p>
          <a:p>
            <a:pPr marL="343080" indent="-343080">
              <a:spcBef>
                <a:spcPts val="20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Times New Roman"/>
              </a:rPr>
              <a:t>Materia temática secundaria (secundary subject matter): Análisis iconográfico </a:t>
            </a:r>
            <a:endParaRPr b="0" lang="en-US" sz="3200" spc="-1" strike="noStrike">
              <a:solidFill>
                <a:srgbClr val="ffffcc"/>
              </a:solidFill>
              <a:latin typeface="Arial"/>
            </a:endParaRPr>
          </a:p>
          <a:p>
            <a:pPr marL="343080" indent="-343080">
              <a:spcBef>
                <a:spcPts val="20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Times New Roman"/>
              </a:rPr>
              <a:t>Interpretación iconológica</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
          <p:cNvSpPr/>
          <p:nvPr/>
        </p:nvSpPr>
        <p:spPr>
          <a:xfrm>
            <a:off x="2286000" y="-120600"/>
            <a:ext cx="457200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nSpc>
                <a:spcPct val="100000"/>
              </a:lnSpc>
              <a:spcBef>
                <a:spcPts val="27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54180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Análisis preiconográfico</a:t>
            </a:r>
            <a:endParaRPr b="0" lang="en-US" sz="44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ea typeface="Arial"/>
              </a:rPr>
              <a:t>Se realiza mediante “la identificación de las formas presentes en la obra artística”: representaciones de objetos naturales —animales, plantas, casas, herramientas, etc.—, personas, acontecimientos y lugares.</a:t>
            </a:r>
            <a:r>
              <a:rPr b="0" lang="es-ES" sz="3200" spc="-1" strike="noStrike">
                <a:solidFill>
                  <a:srgbClr val="ffffcc"/>
                </a:solidFill>
                <a:latin typeface="Arial"/>
                <a:ea typeface="Arial"/>
              </a:rPr>
              <a:t>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ea typeface="Arial"/>
              </a:rPr>
              <a:t>Experiencia cotidiana y cultura general</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7:03:08Z</dcterms:created>
  <dc:creator>Felix  Del Valle</dc:creator>
  <dc:description/>
  <dc:language>en-US</dc:language>
  <cp:lastModifiedBy>Felix  Del Valle</cp:lastModifiedBy>
  <dcterms:modified xsi:type="dcterms:W3CDTF">2005-03-15T21:59:03Z</dcterms:modified>
  <cp:revision>10</cp:revision>
  <dc:subject/>
  <dc:title>Análisis documental de obras de arte y de reproducciones de arte</dc:title>
</cp:coreProperties>
</file>